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0926-0152-4C8C-B019-1EE5D79FAF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FB7-9B9C-4E6D-A278-051C85EB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387-1AC4-4D8B-9FD8-59677206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D93-EFCE-4A71-87C0-7CFA8F2C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DC1-B19B-40CF-913E-A619E3A4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D52-42BC-4736-876E-D1C09D9C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392-305B-46EA-8CBB-B717D7E4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479-8DBF-4091-BA73-7C9AEBA5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2AF-7251-4376-B8F9-6EC5970B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447-A1D9-49D7-9958-555CE930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C2D-5039-4FAB-B9A2-F2C3CC5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3F5-8A28-4290-BCD7-FCA4858D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CBC-9C61-4A61-942B-F373457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FB7C-7123-4072-8763-8F503B87E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3720" y="1523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153800">
            <a:off x="2056320" y="380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 flipV="1" rot="11318400">
            <a:off x="969480" y="517968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 rot="20014200">
            <a:off x="229680" y="4568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7920" y="1523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33720" y="1523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RomaK</cp:lastModifiedBy>
  <dcterms:modified xsi:type="dcterms:W3CDTF">2015-09-03T12:18:20Z</dcterms:modified>
  <cp:revision>7</cp:revision>
  <dc:subject>newtons laws bug on windshield</dc:subject>
  <dc:title>newtons laws bug on windshield</dc:title>
</cp:coreProperties>
</file>